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787-8583-4E19-9BB3-898BEDBB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3BE-D4D1-4F68-87D1-5C3885E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D7C-BD75-4D1F-9464-6DD6774C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3C8-2B24-43D0-93CF-B99A5678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783-BC83-41C2-8FA8-DF22F7C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606-9A5E-4799-881C-9405DB5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FEA-33C1-4DE6-BE3B-DF5B6744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902-1AC0-4EDA-BA46-18F6E67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E22-1DF5-423D-BA5F-1B103474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DB1-C55C-4F70-91AC-516034E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217-9766-40DB-B18A-8B56BBF5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C07-4FDE-4C54-9D78-36143A6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5415-A146-43D5-83D8-6E50E0B7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58920" y="3581280"/>
            <a:ext cx="1440000" cy="1096920"/>
            <a:chOff x="1258920" y="3581280"/>
            <a:chExt cx="1440000" cy="1096920"/>
          </a:xfrm>
        </p:grpSpPr>
        <p:sp>
          <p:nvSpPr>
            <p:cNvPr id="42" name=""/>
            <p:cNvSpPr/>
            <p:nvPr/>
          </p:nvSpPr>
          <p:spPr>
            <a:xfrm>
              <a:off x="1438200" y="43178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58920" y="43178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0800000">
              <a:off x="1437840" y="3581280"/>
              <a:ext cx="1079640" cy="557280"/>
            </a:xfrm>
            <a:custGeom>
              <a:avLst/>
              <a:gdLst>
                <a:gd name="textAreaLeft" fmla="*/ 237240 w 1079640"/>
                <a:gd name="textAreaRight" fmla="*/ 842400 w 1079640"/>
                <a:gd name="textAreaTop" fmla="*/ 122400 h 557280"/>
                <a:gd name="textAreaBottom" fmla="*/ 434880 h 5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0920" y="3670200"/>
              <a:ext cx="360360" cy="360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4065480"/>
              <a:ext cx="1440000" cy="360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311640" y="2870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2360" y="2870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11640" y="2133360"/>
            <a:ext cx="1079280" cy="556920"/>
          </a:xfrm>
          <a:custGeom>
            <a:avLst/>
            <a:gdLst>
              <a:gd name="textAreaLeft" fmla="*/ 237240 w 1079280"/>
              <a:gd name="textAreaRight" fmla="*/ 842040 w 1079280"/>
              <a:gd name="textAreaTop" fmla="*/ 122400 h 556920"/>
              <a:gd name="textAreaBottom" fmla="*/ 434520 h 55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222640"/>
            <a:ext cx="360360" cy="360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2617920"/>
            <a:ext cx="1440000" cy="3603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18320" y="46990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39040" y="46990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818320" y="3962160"/>
            <a:ext cx="1079280" cy="556920"/>
          </a:xfrm>
          <a:custGeom>
            <a:avLst/>
            <a:gdLst>
              <a:gd name="textAreaLeft" fmla="*/ 237240 w 1079280"/>
              <a:gd name="textAreaRight" fmla="*/ 842040 w 1079280"/>
              <a:gd name="textAreaTop" fmla="*/ 122400 h 556920"/>
              <a:gd name="textAreaBottom" fmla="*/ 434520 h 55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31040" y="4051440"/>
            <a:ext cx="360360" cy="360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4446720"/>
            <a:ext cx="144000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5:55Z</dcterms:created>
  <dc:creator>Schülerrechenzentrum Dresden</dc:creator>
  <dc:description/>
  <dc:language>en-US</dc:language>
  <cp:lastModifiedBy>eq</cp:lastModifiedBy>
  <dcterms:modified xsi:type="dcterms:W3CDTF">2008-10-09T06:48:16Z</dcterms:modified>
  <cp:revision>7</cp:revision>
  <dc:subject/>
  <dc:title>PowerPoint-Präsentation</dc:title>
</cp:coreProperties>
</file>