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BED-F062-4634-8FF2-7BFF0C3D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ED5-91F0-4913-AF3B-86351A9F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190-7E8D-429E-8BB5-369B605F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370-CD78-4C49-BB0B-6B6D0DEC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A27-CA41-4DAE-9EAA-F74E8A26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AC6-288D-4388-A32F-9A3EB756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708-754C-4A7E-9C9C-9E55C584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0C2-8DE8-48D6-A237-A3754BFA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23E-09B3-4403-AA83-C881868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243-5E2B-4094-9D0E-D5BCAC11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80A-CF1A-48E7-9AA0-1EB2AD7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6CC-3E32-4A59-825C-5D019A52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F8AE-D080-4884-9603-D9DF5094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8200" y="43178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58920" y="43178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437840" y="3581280"/>
            <a:ext cx="1079640" cy="55728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122400 h 557280"/>
              <a:gd name="textAreaBottom" fmla="*/ 43488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3670200"/>
            <a:ext cx="360360" cy="360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65480"/>
            <a:ext cx="1440000" cy="360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5:55Z</dcterms:created>
  <dc:creator>Schülerrechenzentrum Dresden</dc:creator>
  <dc:description/>
  <dc:language>en-US</dc:language>
  <cp:lastModifiedBy>srz204l</cp:lastModifiedBy>
  <dcterms:modified xsi:type="dcterms:W3CDTF">2008-09-25T16:38:21Z</dcterms:modified>
  <cp:revision>4</cp:revision>
  <dc:subject/>
  <dc:title>PowerPoint-Präsentation</dc:title>
</cp:coreProperties>
</file>